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76710-D915-459F-8145-803762ACC8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2AE5-FC89-43FA-990E-E994EB9BC6E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2FD0-E486-45EB-85C4-46715CE95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486A-FA20-4425-BF97-AAE97D7F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9E1-069B-46D3-86F9-76CE9503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9CA-1041-49CE-B48D-F5A11813A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B23C-EF42-407C-AE36-7D76BFFF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12C6-2977-41E5-AD0D-63713DE8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1E46-1E12-4D2B-B873-18E8CC19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875B-27AD-4486-AC8B-817AEF0C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F431-2F97-48C1-BE20-78DFC208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1D49-3500-4B30-BC7F-FCCEC449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6333-8CC7-4038-8149-72AAD690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3F2D-9B0E-4012-9277-72606B120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93E9-A2BE-4041-8E27-F6B2B154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EA6C9-1989-4116-AFEB-370D1292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34FD-EF24-4AF9-AB0F-F5B67A6D3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C65DA-6C0F-43C2-88A0-21BE9B23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04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0" y="148392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92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04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4800" y="4188960"/>
            <a:ext cx="2782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B6BA-B02E-4751-8E14-66496D8BF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92D-CEF6-472A-97D4-DEAC087D3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1FD-172F-4981-81A4-2BB9D577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A63-CDF9-4153-970F-7779EB8B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193-EE5C-42D3-AFFC-BE940F0D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F1C-B12A-46D2-BA7B-366FCB41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418896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DAF9-A57C-4955-913E-7B7D69D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483920"/>
            <a:ext cx="42170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920" y="4188960"/>
            <a:ext cx="864216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0BD-89EE-4E24-BD4E-19CDD8E5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6F5A-A71C-4657-BC20-C95B013F04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50920" y="1483920"/>
            <a:ext cx="864216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F50F-5312-4D5B-ACFE-D4306F4E56C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8" descr=""/>
          <p:cNvPicPr/>
          <p:nvPr/>
        </p:nvPicPr>
        <p:blipFill>
          <a:blip r:embed="rId1"/>
          <a:stretch/>
        </p:blipFill>
        <p:spPr>
          <a:xfrm>
            <a:off x="1352520" y="1785960"/>
            <a:ext cx="6585120" cy="3760920"/>
          </a:xfrm>
          <a:prstGeom prst="rect">
            <a:avLst/>
          </a:prstGeom>
          <a:ln w="0">
            <a:noFill/>
          </a:ln>
        </p:spPr>
      </p:pic>
      <p:pic>
        <p:nvPicPr>
          <p:cNvPr id="90" name="01_victory_mike_batt_mix_.mp3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1515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9680" y="1928520"/>
            <a:ext cx="80010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и методики здоровьесберегающего обуч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пит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спортивных занятий с учащими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 по организации медицинского обслуживания учащихс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42600" y="1785600"/>
            <a:ext cx="807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специализированных учреждений для одарённых детей, оказавшихся в трудной жизненной ситуаци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оприятий для поддержки общения и взаимодействия детей в различных областях интеллектуальной и творческой деятельности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летних (сезонных) профильных школ для самореализации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ренная система олимпиад, соревнований, конкурсов и иных творческих испытаний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танционное, заочное и очно-заочное образова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ильное обучение учащихся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8" descr=""/>
          <p:cNvPicPr/>
          <p:nvPr/>
        </p:nvPicPr>
        <p:blipFill>
          <a:blip r:embed="rId1"/>
          <a:stretch/>
        </p:blipFill>
        <p:spPr>
          <a:xfrm>
            <a:off x="596880" y="927000"/>
            <a:ext cx="847404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ша новая школа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26920" y="5662440"/>
            <a:ext cx="80582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ая образовательная инициатив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илюрик Ирина Петровн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28440" y="5643360"/>
            <a:ext cx="805788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Средняя общеобразовательная школа № 10 г. Йошкар-Олы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о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8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30,92,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 РФ об образовани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8760" y="1856880"/>
            <a:ext cx="846432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. 2, ст. 1 Закона об образовании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ой основой государственной политики Российской Федерации в области образования является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ая 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евая программ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звития образовани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апы реализации програм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0040" y="1643040"/>
            <a:ext cx="81439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6-2010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пилотных моделей развит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стратегии обновления системы общего образовани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-2015 г.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указанных моделей в практике каждого муниципалитет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ение ключевых параметров инициативы «Наша новая школа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ючевые параметр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8760" y="1928880"/>
            <a:ext cx="814392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здоровья школьнико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талантливых дете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09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новление образовательных стандар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2600" y="192888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ребования к образовательным программа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вольные механизмы оценки качества образования для разных групп образовательных учреждени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ие в сопоставительных исследованиях качества образования в различных муниципалитетах, субъектах Российской Федерации, на международном уровн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144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учительского потенциал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856880"/>
            <a:ext cx="82864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чение в школы учителей, имеющих базовое непедагогическое образовани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технологии организации и финансирования системы подготовки, переподготовки и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информационных и коммуникационных технологий в системе повышения квалификац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е взаимодействие и деятельность социальных сетей учителей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я модель аттестации педагогических и руководящих кадров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920" y="188640"/>
            <a:ext cx="875016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витие школьной инфраструкту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71680" y="2000160"/>
            <a:ext cx="79293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ное подушевое финансиров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ьных сове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школ ступеней обучения: младшие школьники, подростки, старшие школьник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 автономных учреждений общего образова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5:48:30Z</dcterms:created>
  <dc:creator>Ирина Петровна</dc:creator>
  <dc:description/>
  <cp:keywords/>
  <dc:language>en-US</dc:language>
  <cp:lastModifiedBy>Ирина Петровна</cp:lastModifiedBy>
  <dcterms:modified xsi:type="dcterms:W3CDTF">2009-07-29T10:50:26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241049</vt:lpwstr>
  </property>
</Properties>
</file>